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736C9-99BF-4D38-8C96-2718F0BB8A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EBB36-0A65-4498-8F62-1E177B2E7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FDE99-4D62-4B8C-A1E8-2A5C2158EA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C03E8-C098-42CE-B767-F83812C53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37CA1-34EA-4397-90FA-E045DD70F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2857680" y="514440"/>
            <a:ext cx="3429000" cy="2571840"/>
          </a:xfrm>
          <a:prstGeom prst="rect">
            <a:avLst/>
          </a:prstGeom>
          <a:ln w="0">
            <a:noFill/>
          </a:ln>
        </p:spPr>
      </p:sp>
      <p:sp>
        <p:nvSpPr>
          <p:cNvPr id="6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CEB7D-C980-4CBA-A203-820DC9F9E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857680" y="514440"/>
            <a:ext cx="3429000" cy="2571840"/>
          </a:xfrm>
          <a:prstGeom prst="rect">
            <a:avLst/>
          </a:prstGeom>
          <a:ln w="0">
            <a:noFill/>
          </a:ln>
        </p:spPr>
      </p:sp>
      <p:sp>
        <p:nvSpPr>
          <p:cNvPr id="61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872E0-EE22-4995-B3C2-1F54F9C51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857680" y="514440"/>
            <a:ext cx="3429000" cy="2571840"/>
          </a:xfrm>
          <a:prstGeom prst="rect">
            <a:avLst/>
          </a:prstGeom>
          <a:ln w="0">
            <a:noFill/>
          </a:ln>
        </p:spPr>
      </p:sp>
      <p:sp>
        <p:nvSpPr>
          <p:cNvPr id="5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C9086-65A7-4116-824A-FEEEF622D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857680" y="514440"/>
            <a:ext cx="3429000" cy="2571840"/>
          </a:xfrm>
          <a:prstGeom prst="rect">
            <a:avLst/>
          </a:prstGeom>
          <a:ln w="0">
            <a:noFill/>
          </a:ln>
        </p:spPr>
      </p:sp>
      <p:sp>
        <p:nvSpPr>
          <p:cNvPr id="5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B68B1-76E1-407D-86AA-E9ADCB41E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2857680" y="514440"/>
            <a:ext cx="3429000" cy="2571840"/>
          </a:xfrm>
          <a:prstGeom prst="rect">
            <a:avLst/>
          </a:prstGeom>
          <a:ln w="0">
            <a:noFill/>
          </a:ln>
        </p:spPr>
      </p:sp>
      <p:sp>
        <p:nvSpPr>
          <p:cNvPr id="6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10F4B-AF35-4E87-B0FF-A46622EF5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FBF3A-6AC1-4EDE-AA70-AC7E1B36E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AADFE-BD86-432F-8C0A-C870D3307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A65539-491A-4EE1-88A5-8E2861D28C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3BA847-C9F8-417C-8EC4-B032E1D069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8655FD-28DB-4593-BDD6-DF279AD544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1ED38-E7B7-435D-85F0-CD6D590952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278CC-3D49-44A8-A652-72C29C3048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81CDAB-F362-48F3-A3A5-B1FCF2548E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FB2232-9DC8-450E-B61A-D0C127D94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3DA81E-19FB-40A9-9071-1AB773929C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C29F38-2BE8-4CAB-B3FB-46BA438A84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3803ED-C9CD-40B9-8B1F-3624D21AE4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64477-87E7-4A48-9B37-4BC228623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1676EF-1422-4ED2-8010-BF3900A095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9ADF84-6604-4E1D-9599-4C8F2F4619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1140AB-307B-489D-88C2-E8E516BFF3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37710E-142F-4A84-B9E0-30797056C9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E55204-FF1D-4873-A240-2F83AEA8A4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E9B086-6834-4197-9AE4-BC250FF523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A9D3BA-AF0D-427C-B453-BB9AA4ED16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FC05B8-7CF7-4D41-8925-197E82DECB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BC3295-1BA8-4B15-B78C-0B78DDD43E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1375C3-E600-497E-80DD-BEBB20E669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09F05-C117-4459-ACD3-2485535A5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84C293-5648-4A78-B122-EE41DC6EA5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98703B-8F0D-453E-B108-85D0219539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921B16-08ED-4D16-8F0B-8A5E8F965F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741B66-909D-44A5-AAAE-D2679312B2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AAEF3F-AF84-463C-B29F-CA4FCD74E9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47BBE1-82E0-4421-8248-6C578A5095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E5E802-49FD-4F94-BA60-4F4DB7718C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1F29CF-94DB-4EB8-820B-BB9925F7F2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E5849B-C848-449F-9ACE-2B6A2B4D32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8BFD17-EFE2-45DB-BDAE-8DAAC6F668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D3E05-813B-4A3D-8E24-E46DECFD7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4642B8-3E16-4AD9-8CB2-B118D5C974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A0D06C-FB46-4A21-AFC5-CA3F5A26BA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F70FD2-F94E-4F4C-AD31-97EC5D6009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ADBBC2-8B48-414F-9554-17DB459196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9967CB-9DC9-4F99-B8CC-AB34011842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3F5AE3-EB7C-461B-8385-0BC11DBC2C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3C515B-B780-465D-9701-ED03245ECD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98B85B-7C75-4DB1-B4E1-B9B2554228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2F044B-C969-4576-B34D-1CC5861235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E20EA2-C122-42C2-A12A-A4970D5C81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D9E0A-1E65-4185-813D-C23929A4A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43C6A3-B2A6-46C1-84E7-E1B87C2D35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DB1698-FC08-45E1-8BA0-495F3F0CCF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481818-232F-4651-ABD8-8E226C45FE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BD26E5-2C02-4CAA-A807-5122E5A9C6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BA34D4-2ADE-42F5-B6E8-81CC0AB81A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89417-243A-405F-A7CB-66F3AA9AF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FF30D-415C-4CB6-903F-B691E52F3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D4502-5ABE-44D5-B265-263DA6E33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89307-9CAE-45F3-AD52-FD69A4CA7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FD004-3468-4622-A24B-EB9949B85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011A9-B030-4133-BBD7-9B705B1E1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A1DC6-CF99-4439-8688-A4FC0039E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E423C-E525-41F9-98FC-C37CFC31E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C814B-70ED-4556-9FAC-9D7026B02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50508-6E9B-4E1D-AAA5-3DFBC3763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EDE44-044D-4162-8E30-D85E4F993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998A8-8D83-4414-A9B6-7F2FFEEC88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68D62-22FA-453F-9B3D-6E962429C4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EA5034-B98B-4B40-B0C5-234E577E2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EE37C-F793-4AA2-AA24-B6BF405B8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B1D697-8957-4FFE-80B2-E9470EECF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6E7D-D088-4402-814D-A053C3C7F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7A14C-97C1-4F0F-9105-C87B0D6C3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0FD48-1F49-42E9-9498-EEF1F59CC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9E468-118D-4E9A-802D-CC5E233FC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67E96-1D88-42DB-8C1D-F36B9746D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8AF30-AF08-40F3-8011-DFAE22464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86E04-F019-4B90-AAAE-B82D8F2C46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73B9C-B136-45D2-9561-516CDB517D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8A92CB-E3A9-4E8C-9CE2-41583B1D22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110057-2DDF-485E-A3BE-C277C8889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C8D5A-636B-4C09-859A-4E0363AFD1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70413-7569-40A0-BBFA-CBAD9D327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E7763-62A2-476E-925B-1ED7E7239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878FBC-60A2-4DFD-8A3C-518C650F0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CEEBB-22A5-42B3-88E0-B2A20018D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7531F-AF85-4A97-A689-291F826D7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0D71E-C4C3-4DA5-A3CF-FA6199B595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A45B7-BC62-44BF-BA48-22F6A71741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6D4EB-A40C-4593-8F24-4FE9BA54A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9BE7F-D463-4F26-934D-EB607A2C7D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22E4AC-3E9B-4ACC-89A3-30136553E4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228FB6-D6B4-4703-A2AE-D929D54D50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D806-B200-4F04-A46D-673CE0B4D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9DAAFC-5FAE-49A6-BF09-11458E6CF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C2DCC7-6675-411C-8502-2805A51481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B99A22-487F-4028-B40F-626252316C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36D45-226E-4A62-B1A0-31E2A74B3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8BFF23-3BC6-4008-8A16-F842A254F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71FF9-3813-46BF-A495-F477148BC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D86C8-DA7A-4AAC-8698-0E6AB7482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9BFC5-2B6A-424A-A856-60C4BC77B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D975A-354B-4844-A6D6-5E6E3B0D0B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C4A13C-3036-4014-BAE2-1497177F8E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2E166-86F4-4BC9-95A5-104C6E23A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6A7A48-687F-4E67-991D-08E3FC6F73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1754B1-2757-4985-87C1-2DCC6B7F8D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D19A0-6017-4E9B-AF47-A3CA70E693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CF1CA5-EC44-4D63-980E-C45DC38DC1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3647DC-444F-44CD-927F-0C0D159C59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4C34FE-DBB4-463B-AF1B-607E09C99D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13E0E-11B4-4A55-BCB7-406128541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131B9-0B16-4355-94D2-B1FACA254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6D331-A39D-46A4-9885-E41884871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69AD6-5B37-4B6F-BAC5-6029C0B66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154D-2B84-4077-8F5D-1766249B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97E6A-D12A-44DB-8D2B-36B74D72D8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B9085D-301F-49F8-81AB-4E158A8C5A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5CD1AD-89A2-49ED-853B-B214CA6D39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04DC6A-19C2-4E84-8AE1-8740A63D4D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BCE33-1EF8-431C-8F69-E70B7CC08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40492-F31F-4281-B67B-51CD11D49B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A6206-82D2-4563-9506-EB512760A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823E32-DC57-46D0-8D6F-3BB10BB44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51D90D-8002-4D7A-8CC5-78807BD7F0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FC325-1F1D-438F-B471-EC2F5093DE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BF10-6B37-4535-8D2F-B9A1D1637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70B43A-4284-4389-A95F-750ACEDF7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39440-3FC3-47C4-B9C1-A411BD9CCA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B02F2-365B-405E-88D5-5F50666873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5DC4E7-49D7-45C7-BCAF-7049EE4A02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60222C-3B16-4484-834C-5F05342E10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3E88DB-37FA-4044-9964-256AB908F4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366599-EA3D-4E42-B2F5-A59DD41896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8CD69-9AEE-441F-82D9-BD08863F8C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07848C-B5A2-4B32-8C58-D996507F1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1FA09-54D5-4094-A443-B34EF0ACD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5FF4-5966-4F8C-8DC1-BA222882F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23992-15F0-4376-8C2E-4616637D57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AF3449-FC71-4710-B930-326290265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FDE7C8-FABD-46E4-80C4-E15CA0A77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D54A3-03EF-4CB3-822B-BF28EEDEA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1BAF9-EFC5-4EB4-AD52-F7AB66EAC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A12689-FF3C-414F-BD69-80142478D2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D57308-2CFC-46AE-91F8-13FBD07D43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CC28ED-0C3F-4D69-884F-2856FC551D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E79EC9-0684-4ABF-9685-27307D20CC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F4B70B-BD61-40CB-9AC9-38C2DFA437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C1583-BAA5-461D-B08C-DEF7A6D912D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60F0E-6045-4097-A353-42DD07B05FE1}" type="slidenum">
              <a:rPr b="0" lang="en-US" sz="1200" spc="-1" strike="noStrike">
                <a:solidFill>
                  <a:srgbClr val="898989"/>
                </a:solidFill>
                <a:latin typeface="Calibri"/>
              </a:rPr>
              <a:t>&lt;number&gt;</a:t>
            </a:fld>
            <a:fld id="{3F0680BE-870D-48F2-9907-AACF9F0EAB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5E4BD-8657-4E0F-8AE4-3692E019EE8D}"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696D3-C4EC-4F2B-A77D-CE4C3EAE72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67182-C667-44F0-9A26-E9C21E137E5D}"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ABE7D-F0EF-4A2A-8C4B-E327319E05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A1AD5-61AE-46DC-B5AF-DD726CDC7EF7}"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106B6-CBF7-4E30-8E4B-89322E8E9E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F4B47-295F-48B0-B662-AF6AD747CE7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1F557-113A-4A5B-B815-0A8C009D0B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E7DE7-20BB-4165-8CAA-5F8CFEED2668}"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00D2D-7ED3-45DC-8D39-6D012CEB1D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E7070-9516-4543-AD00-AF0A41ED109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432E0-AADD-4594-BE65-315D248740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8EFD3-C679-4A33-8431-8E728C65057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9B738-49AA-48BC-BBD1-3E34415F14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EAD5E-BD75-4FD9-AC12-5B624958DF4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44D46-75AE-498B-9451-CF8C4551A6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FC2DC-CEBA-4D45-8B17-996CA1C20103}"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A4C01-C7E1-4486-9D68-8DED7D7BA2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0A586-168F-424C-B55D-E1B2DA5771C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314AC-1E5B-4967-964C-0C24A2ADAA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A5741-2D5C-4495-A174-44D4E8F636FC}"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54CC1-C09E-4C69-AF38-075DFA98B7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4.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824E5-826A-45EA-A09A-036D15CA1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30C92-0AE4-4B0B-9619-BE13EFAEED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EB006-301F-4EF2-B1EC-7E34985EA9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F972F-7B79-4BDF-9BF0-61B059839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0796D-3DDA-46B2-B147-E447E2E180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3C3DE-64CB-4148-B816-CCB3236D20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BCF5B-4F23-4876-A0E7-91CBD48C8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58716-F2CF-4A37-B0F5-59A5254C46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DEADC-7143-4DD7-A4A1-B58CB339AD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2979A-32F8-4A36-B980-18B2E9D061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B4EA3-696D-456C-B5E2-3F4ECFF382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D5971-FD79-4AFF-B174-ECDC1587F2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1D4BB-A285-4BBF-B920-5CB2878F0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B3C52-A40C-44BF-AD78-B10DF0BB9B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423C2-4588-454F-8CDF-1F9AA9398D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AC48B-E703-424A-B32F-CC7ACF3C3E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138560"/>
        </p:xfrm>
        <a:graphic>
          <a:graphicData uri="http://schemas.openxmlformats.org/drawingml/2006/table">
            <a:tbl>
              <a:tblPr/>
              <a:tblGrid>
                <a:gridCol w="382680"/>
                <a:gridCol w="666720"/>
                <a:gridCol w="4228920"/>
                <a:gridCol w="585720"/>
                <a:gridCol w="1097280"/>
              </a:tblGrid>
              <a:tr h="701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7F375-7EDA-4BF3-B52D-DF2AD67102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7463D-C90A-47CA-80E8-A182CEC514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2C7D9-E925-41FF-83AE-D9FA0AE9EA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49E78-772E-43B2-8BDD-8BFEFB5091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4A5CA-A8F2-48CF-A71F-F7EEA0A24A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22T12:59:21Z</dcterms:modified>
  <cp:revision>55</cp:revision>
  <dc:subject/>
  <dc:title>Titulní strana – Titulek</dc:title>
</cp:coreProperties>
</file>